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E4086-E531-4AC6-8D9D-5463F116C3E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FB33-6E66-4AA6-B7F9-77A34791B1D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287E-428C-4CAF-80C8-D57F8388F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44CE-949A-449E-8C61-D6A4CC2FA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0FF9-EB4C-4F17-870D-66385423F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7CE9-EB73-4C9B-B3EB-9DBE57E5D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39DB-3C14-40D1-9F57-E6A75F0EE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182D-121C-4779-BF05-1BF604819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94E4-DDD5-42A3-AAA7-2A3838012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A343-8D19-49F3-84CC-4730777CE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CD21-F075-495F-AC23-AD4B9EEB4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12CB-DD9E-4A20-8BEC-8483148B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E95B-1D6C-4137-9BB4-60676F9D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2227-56B6-433B-AA7F-DB238D8C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9780D-C1E6-4EDD-966F-94D1DEEC491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BA932-9008-4EDF-9445-5B0538848C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инистерство цифрового развития, связи и массовых коммуникаций Российской Федерации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Федеральное государственное бюджетное образовательное учреждение высшего образования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Сибирский государственный университет телекоммуникаций и информатики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Заголовок 1"/>
          <p:cNvSpPr/>
          <p:nvPr/>
        </p:nvSpPr>
        <p:spPr>
          <a:xfrm>
            <a:off x="0" y="1928880"/>
            <a:ext cx="9144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АКАЛАВРСК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Заголовок 1"/>
          <p:cNvSpPr/>
          <p:nvPr/>
        </p:nvSpPr>
        <p:spPr>
          <a:xfrm>
            <a:off x="0" y="2643120"/>
            <a:ext cx="91440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Наименование темы бакалаврской работ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4140360" y="4149720"/>
            <a:ext cx="500364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ыполнил(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тудент(ка) групп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X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льин Илья Иль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уководитель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.т.н., доцент кафедры ММБП СибГУТИ Андреев Андрей Андре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Заголовок 1"/>
          <p:cNvSpPr/>
          <p:nvPr/>
        </p:nvSpPr>
        <p:spPr>
          <a:xfrm>
            <a:off x="0" y="6429240"/>
            <a:ext cx="9144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6000"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овосибирск – 20Х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68360" y="126792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ктуальность те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едмет исслед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ъект исслед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Цель исслед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дачи исслед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7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928800" cy="1079640"/>
          </a:xfrm>
          <a:prstGeom prst="rect">
            <a:avLst/>
          </a:prstGeom>
          <a:ln w="0">
            <a:noFill/>
          </a:ln>
        </p:spPr>
      </p:pic>
      <p:sp>
        <p:nvSpPr>
          <p:cNvPr id="5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FCFF5-48C8-4E57-BC22-C21752A092E6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95280" y="14126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ательный демонстрационный материа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аблицы, графики, модели, основные тезисы и т.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928800" cy="1079640"/>
          </a:xfrm>
          <a:prstGeom prst="rect">
            <a:avLst/>
          </a:prstGeom>
          <a:ln w="0">
            <a:noFill/>
          </a:ln>
        </p:spPr>
      </p:pic>
      <p:sp>
        <p:nvSpPr>
          <p:cNvPr id="5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560B2-C1F0-4A7D-812D-BBBF6AF50CFC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761544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АКЛЮЧ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95280" y="141300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сновные результаты, выво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7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928800" cy="1079640"/>
          </a:xfrm>
          <a:prstGeom prst="rect">
            <a:avLst/>
          </a:prstGeom>
          <a:ln w="0">
            <a:noFill/>
          </a:ln>
        </p:spPr>
      </p:pic>
      <p:sp>
        <p:nvSpPr>
          <p:cNvPr id="6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7558F-662A-443A-9FC7-D98913C8CD9D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1213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928800" cy="1079640"/>
          </a:xfrm>
          <a:prstGeom prst="rect">
            <a:avLst/>
          </a:prstGeom>
          <a:ln w="0">
            <a:noFill/>
          </a:ln>
        </p:spPr>
      </p:pic>
      <p:sp>
        <p:nvSpPr>
          <p:cNvPr id="6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0076E-6C0F-46E0-8105-894B77F754F2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08:04:11Z</dcterms:created>
  <dc:creator>FooBar</dc:creator>
  <dc:description/>
  <dc:language>en-US</dc:language>
  <cp:lastModifiedBy>Меленцова Надежда Анатольевна</cp:lastModifiedBy>
  <dcterms:modified xsi:type="dcterms:W3CDTF">2021-04-07T08:16:49Z</dcterms:modified>
  <cp:revision>31</cp:revision>
  <dc:subject/>
  <dc:title>Слайд 1</dc:title>
</cp:coreProperties>
</file>